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B33-5956-447B-9FA0-B10FA144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C8D-31E6-4F76-9B92-4DE0310B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E71-3088-4D35-9036-0C48B1B2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23F-0A3D-435F-9F82-3A1EA067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FB9-265B-4F33-9922-8C29F17C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D33-5F07-4437-BE9E-A06FC429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6F7-8A65-4EB4-8354-61309873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A3F-9731-42AB-9304-FDF0008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BA2-2BF5-4A46-96DD-A30A6C35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155-25E7-45E1-936B-26661F3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E65-66BA-431A-8439-D5EFDE47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221-E85A-47E8-B372-679F159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2BB9-F034-414C-BE53-C7A16A3C6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47800" y="214200"/>
            <a:ext cx="930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2080" y="1260000"/>
            <a:ext cx="996948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eizpolnjene: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</a:rPr>
              <a:t>Javno naročan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Okoljska zakonodaja; Statistični sistem in kazalniki rezultat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2782800"/>
          <a:ext cx="12192120" cy="4075200"/>
        </p:xfrm>
        <a:graphic>
          <a:graphicData uri="http://schemas.openxmlformats.org/drawingml/2006/table">
            <a:tbl>
              <a:tblPr/>
              <a:tblGrid>
                <a:gridCol w="2265480"/>
                <a:gridCol w="3782880"/>
                <a:gridCol w="1341360"/>
                <a:gridCol w="1538280"/>
                <a:gridCol w="1720800"/>
                <a:gridCol w="154332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določen v 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viden na 1. seji / 2. sej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viden na 3. sej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 / dec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I, 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11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11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Raziskave in inovaci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Infrastruktura za raziskave in inovaci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Digitalna ras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Infrastruktura za omrežja naslednje generaci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Spodbujanje Akta za mala podjetja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Ukrepi za spodbujanje energetske učinkovitosti stavb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Ukrepi za spodbujanje proizvodnje in distribucije obnovljivih virov energi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Preprečevanje in obvladovanje tveganja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Vodni sektor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Prome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Železniški prome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Drugi načini prevoza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Aktivno in zdravo staran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Zdrav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47800" y="-96840"/>
            <a:ext cx="930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92160" y="900000"/>
          <a:ext cx="12038040" cy="5958000"/>
        </p:xfrm>
        <a:graphic>
          <a:graphicData uri="http://schemas.openxmlformats.org/drawingml/2006/table">
            <a:tbl>
              <a:tblPr/>
              <a:tblGrid>
                <a:gridCol w="2530440"/>
                <a:gridCol w="3651120"/>
                <a:gridCol w="1360440"/>
                <a:gridCol w="1598760"/>
                <a:gridCol w="1492200"/>
                <a:gridCol w="140508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en v 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. na 1. seji / 2. se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viden na 3. se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 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/dec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6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 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/dec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1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8720" y="0"/>
            <a:ext cx="930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98280" y="976320"/>
          <a:ext cx="11995200" cy="5824440"/>
        </p:xfrm>
        <a:graphic>
          <a:graphicData uri="http://schemas.openxmlformats.org/drawingml/2006/table">
            <a:tbl>
              <a:tblPr/>
              <a:tblGrid>
                <a:gridCol w="2467080"/>
                <a:gridCol w="3667320"/>
                <a:gridCol w="1374480"/>
                <a:gridCol w="1589400"/>
                <a:gridCol w="1420560"/>
                <a:gridCol w="1476360"/>
              </a:tblGrid>
              <a:tr h="1319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določen v 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. na 1. seji / 2. se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viden na 3. sej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2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ec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4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2680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71280" y="1436760"/>
          <a:ext cx="12055680" cy="4360680"/>
        </p:xfrm>
        <a:graphic>
          <a:graphicData uri="http://schemas.openxmlformats.org/drawingml/2006/table">
            <a:tbl>
              <a:tblPr/>
              <a:tblGrid>
                <a:gridCol w="2494080"/>
                <a:gridCol w="3656160"/>
                <a:gridCol w="1387440"/>
                <a:gridCol w="1623960"/>
                <a:gridCol w="1393920"/>
                <a:gridCol w="15001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določen v 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. na 1. seji / 2. se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viden na 3. se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23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9dafb"/>
                        </a:gs>
                        <a:gs pos="100000">
                          <a:srgbClr val="e9f2f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9dafb"/>
                        </a:gs>
                        <a:gs pos="100000">
                          <a:srgbClr val="e9f2f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9dafb"/>
                        </a:gs>
                        <a:gs pos="100000">
                          <a:srgbClr val="e9f2f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9dafb"/>
                        </a:gs>
                        <a:gs pos="100000">
                          <a:srgbClr val="e9f2f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9dafb"/>
                        </a:gs>
                        <a:gs pos="100000">
                          <a:srgbClr val="e9f2f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300" spc="-1" strike="noStrike">
                <a:solidFill>
                  <a:srgbClr val="7f7f7f"/>
                </a:solidFill>
                <a:latin typeface="Calibri"/>
              </a:rPr>
              <a:t>http://www.svrk.gov.si/</a:t>
            </a:r>
            <a:br>
              <a:rPr sz="1300"/>
            </a:br>
            <a:r>
              <a:rPr b="0" i="1" lang="sl-SI" sz="1300" spc="-1" strike="noStrike">
                <a:solidFill>
                  <a:srgbClr val="7f7f7f"/>
                </a:solidFill>
                <a:latin typeface="Calibri"/>
              </a:rPr>
              <a:t>http://www.eu-skladi.si/</a:t>
            </a:r>
            <a:br>
              <a:rPr sz="2900"/>
            </a:br>
            <a:br>
              <a:rPr sz="1400"/>
            </a:br>
            <a:endParaRPr b="0" lang="en-US" sz="1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š</cp:lastModifiedBy>
  <cp:lastPrinted>2015-03-10T14:20:03Z</cp:lastPrinted>
  <dcterms:modified xsi:type="dcterms:W3CDTF">2016-04-28T08:11:40Z</dcterms:modified>
  <cp:revision>86</cp:revision>
  <dc:subject/>
  <dc:title>Predhodne pogojenosti</dc:title>
</cp:coreProperties>
</file>